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71616-F96E-4868-BED7-CC24390D6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24ACD-4336-483F-A287-079FFBF97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CE8A0-8338-4A98-88F5-870DB3C97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15E70-9138-4991-A5C8-C6A85EC5C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1C289-1B98-4219-BA95-608ABE7B7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601DD-50C5-42A6-8FFE-5F0AEB170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A79BF-55FC-4991-90BB-F5CDDB464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EA5AE-9E60-4DA7-A341-3271F0E3E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59E5E-F874-45A3-938C-E0D93E87B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F9BA1-3F91-4DD6-9D22-7DF4BBEE3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E9C81-C186-47AB-9084-680E448E0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D2809-3450-44C5-885C-7569D9FE2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713B15-174D-49BD-A8EF-3161B44BCE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0T22:04:20Z</dcterms:created>
  <dc:creator>Brion </dc:creator>
  <dc:description/>
  <dc:language>en-US</dc:language>
  <cp:lastModifiedBy/>
  <cp:revision>1</cp:revision>
  <dc:subject/>
  <dc:title/>
</cp:coreProperties>
</file>